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F8EA-4ECE-4433-A0F0-024A409A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6C16-8BE1-4D0B-A0AC-621772CE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14FA-C85B-4078-AFF1-1792EF31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B036-FAE9-4C33-9D73-16536A8EB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B49B-5238-45BD-8A3D-8C3F6506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56EC-4B84-426B-ADAB-A717B4BE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0606-DE01-4C0B-8E17-ECBB358F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9910-D0BA-46BF-98B2-05767FC7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B298-E425-4B53-9F43-E8A7FA1D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C56E-57AE-4D52-8F63-4D784DA9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010B-B19C-48D1-BA46-A4E53A19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ECB8-563C-4FB2-9061-592F6D63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ED81-69F3-47CF-96A7-692145A15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ig Personality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32000" y="2060640"/>
            <a:ext cx="7416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10) If the pig is drawn with less than 4 legs showing you are living through a period of major change in your lif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11) The larger the pigs ears you have drawn, the better listener you a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12) And last but not least…the longer the pig’s tail that you have drawn (including loops) the more satisfied you are with the quality of your personal relation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64000" y="2060640"/>
            <a:ext cx="3219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3610080" cy="52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 a clean piece of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rite your name on the right hand side top co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rite the date on the left hand corner top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4365720"/>
            <a:ext cx="7155000" cy="18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Draw a pig</a:t>
            </a:r>
            <a:endParaRPr b="1" lang="en-US" sz="96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3384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eaning of Pi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If the pig is drawn towards the top of the paper you are perceived as a positive and optimistic person by ot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2) If the pig is drawn towards the middle of the page you are perceived as a real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497844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3)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f the pig is drawn towards the bottom of the page, you are perceived as a pessimistic person and have the tendency to behave negatively under press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651640" y="836640"/>
            <a:ext cx="308448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4) </a:t>
            </a: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If the pig is facing to the left, you believe in tradition, are friendly and remember dates and birthday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5) If the pig is facing forward (towards you) you are a direct person; neither fear nor avoid discussion and enjoy “stirring the pot” to promote chang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732720" y="1916280"/>
            <a:ext cx="20286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6)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If the pig is facing to the right you are innovative, creative and active; you have a poor memory of dates and birthday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564000" y="2421000"/>
            <a:ext cx="412596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) If the pig is drawn with many details you see yourself as analytical and cautious. Others must work hard to earn your trust and to keep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8) If the pig is drawn with few details you are a risk taker; wear your emotions on your sleeve and care little for the details in 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435640" y="4292640"/>
            <a:ext cx="316080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3970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9) If the pig is drawn with (four) 4 legs showing you are secure, stick to your beliefs and have been told at least once in your life that you are stubbor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27640" y="620640"/>
            <a:ext cx="4392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02:01:40Z</dcterms:created>
  <dc:creator>meridyth taylor</dc:creator>
  <dc:description/>
  <dc:language>en-US</dc:language>
  <cp:lastModifiedBy>meridyth taylor</cp:lastModifiedBy>
  <dcterms:modified xsi:type="dcterms:W3CDTF">2011-11-21T02:51:56Z</dcterms:modified>
  <cp:revision>2</cp:revision>
  <dc:subject/>
  <dc:title>Pig Personality Test</dc:title>
</cp:coreProperties>
</file>